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977-64CE-42E4-B668-A09CBD2D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0570-E7FB-4CB4-98F2-D25EE56E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91F-D040-49B3-98A9-5F6BC1B0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590-7801-40EA-BDE7-AB7BCB0D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D374-7D8F-444B-BD80-8BFC6555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63F9-A3CA-44B1-93FB-8EAD46CC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1103-7911-4602-9BFA-3CD3FFCA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A0DE-81D2-4CAF-9AEC-78C1DA22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FFE5-ADE1-451F-9626-E06ACC4F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2816-93CC-43A3-90F7-B9C83D89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F68B-42D5-40AE-A68F-CD409813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11C-8911-45B9-84BD-7D633E80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BF97-5638-4506-8771-A8FCA3D3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28A5-65FA-4A8B-BAA0-3A231A84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33F5-EE93-45E9-9B9C-50A2D60E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CEE9-0D2C-4CB4-897E-0A45A487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E0AF-6B7F-49B1-B5D0-841F6B6D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B5DEC-302E-4F79-8EA4-2AC8650D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55C7-B0ED-40D8-8016-B89C0E88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6922-5380-4B19-9D03-09D1AAED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C5E0-CE50-4106-859B-21735806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E60D-B073-46A2-A167-9BB73DB2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227-9D6D-4E95-9EFA-1475E410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A7FD-8A1A-4D33-85E8-DE4EF2F7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2E1D-3FF3-4B80-BBDA-DB064874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7EC55-3CB4-41D8-BA84-60E1E98F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DFB95-9389-4B6E-BD71-C7D9E68F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7418-1941-4A83-BA60-93E0D712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AF86-66E6-48A6-BA07-7D434449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0FDF7-8554-4344-AA51-1AD6E585D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1452F-6908-4727-896B-94F87547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44589-F890-49E9-BDF7-B86A942D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5932F-F22C-48BD-A13C-82EB62CE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4D8-1824-4D7E-A6FF-6F88C1B8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3FA72-F53E-4EA2-8297-A770C2A2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C5C88-914D-4D48-A445-0DEEC041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94EAB-D08D-47FA-A039-9FE56940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26475-9A4A-49E1-8D78-92691BE9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1907A-67A9-4441-8BD9-CCC3F8AE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7EB9-F442-4FF5-AA14-C67B4A24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AA55-DF03-4967-816A-30B69D21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CD68F-4378-4271-A6B3-5FEBA6EF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724E-9D8F-4196-9E7C-7D0029A2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904-C2FE-4CC9-B3FE-BED6946D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7E4-6952-4006-BC5A-BEF84FBD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AE6-5DFD-4EAD-A113-D7F9F424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220-D119-49F6-99B8-C71A48F6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C84-FFA5-48FD-AFC7-6BE83895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314F-F3DF-40D8-BF66-E7E3C4501BC9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5DF9-3BF5-487D-8A7B-AEB5225B6324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5009-65B4-414C-96D3-FCEC14647904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4B94-8CFB-48C1-947E-A1C8EA63E819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C:\Program Files\Microsoft Office\Clipart\standard\stddir1\bd06113_.wmf"/>
          <p:cNvPicPr/>
          <p:nvPr/>
        </p:nvPicPr>
        <p:blipFill>
          <a:blip r:embed="rId1"/>
          <a:stretch/>
        </p:blipFill>
        <p:spPr>
          <a:xfrm>
            <a:off x="380880" y="3808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96" name="WordArt 5"/>
          <p:cNvSpPr txBox="1"/>
          <p:nvPr/>
        </p:nvSpPr>
        <p:spPr>
          <a:xfrm>
            <a:off x="1219320" y="457200"/>
            <a:ext cx="102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</a:rPr>
              <a:t>Become a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</a:rPr>
              <a:t>Millionaire!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empus Sans ITC"/>
              <a:ea typeface="Tempus Sans ITC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209680" y="1523880"/>
            <a:ext cx="4724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Woodland Hil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Millionaire Book Clu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C:\Program Files\Microsoft Office\Clipart\standard\stddir2\bs01326_.wmf"/>
          <p:cNvPicPr/>
          <p:nvPr/>
        </p:nvPicPr>
        <p:blipFill>
          <a:blip r:embed="rId2"/>
          <a:stretch/>
        </p:blipFill>
        <p:spPr>
          <a:xfrm>
            <a:off x="7010280" y="457200"/>
            <a:ext cx="1371600" cy="1359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C:\Program Files\Microsoft Office\Clipart\standard\stddir1\bd06135_.wmf"/>
          <p:cNvPicPr/>
          <p:nvPr/>
        </p:nvPicPr>
        <p:blipFill>
          <a:blip r:embed="rId3"/>
          <a:stretch/>
        </p:blipFill>
        <p:spPr>
          <a:xfrm>
            <a:off x="6934320" y="4724280"/>
            <a:ext cx="1347840" cy="1524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C:\Program Files\Microsoft Office\Clipart\WebArt\wb01513_.gif"/>
          <p:cNvPicPr/>
          <p:nvPr/>
        </p:nvPicPr>
        <p:blipFill>
          <a:blip r:embed="rId4"/>
          <a:stretch/>
        </p:blipFill>
        <p:spPr>
          <a:xfrm>
            <a:off x="685800" y="4952880"/>
            <a:ext cx="7984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133720" y="2757600"/>
            <a:ext cx="4724280" cy="28051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457200" y="3049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empus Sans ITC"/>
              </a:rPr>
              <a:t>Good Luc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empus Sans ITC"/>
              </a:rPr>
              <a:t>Future Millionair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1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Times New Roman"/>
              </a:rPr>
              <a:t>Million Bucks?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Pennsylvania Department of Education has challenged and Woodland Hills has accepted the challenge to read 1 million words before the end of the school ye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Times New Roman"/>
              </a:rPr>
              <a:t>How much is a million?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million seconds is 12 day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million hours ago was in 1885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f497d"/>
                </a:solidFill>
                <a:latin typeface="Times New Roman"/>
              </a:rPr>
              <a:t>What can you do with a million dollars?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y 307,692 Big Ma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y 5001 Nintendo D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3962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Times New Roman"/>
              </a:rPr>
              <a:t>How much is a million?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162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1f497d"/>
                </a:solidFill>
                <a:latin typeface="Calibri"/>
              </a:rPr>
              <a:t>How many words is a million?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ound 4,000 pa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5,000 minutes of reading - first gra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,000 minutes of reading –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–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7  Full adult Boo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Times New Roman"/>
              </a:rPr>
              <a:t>The challenge: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ub Members in grades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read a collective 4,000  “pag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ub Members in grades K –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ad a collective  25,000 minu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Accounting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5" name="Content Placeholder 3" descr="reading log 2.jpg"/>
          <p:cNvPicPr/>
          <p:nvPr/>
        </p:nvPicPr>
        <p:blipFill>
          <a:blip r:embed="rId1"/>
          <a:stretch/>
        </p:blipFill>
        <p:spPr>
          <a:xfrm>
            <a:off x="1731960" y="1935000"/>
            <a:ext cx="56800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Tempus Sans ITC"/>
              </a:rPr>
              <a:t>Midterm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ok Exchan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ght Refresh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 Celeb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nning To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7:57:51Z</dcterms:created>
  <dc:creator>CERRKA</dc:creator>
  <dc:description/>
  <dc:language>en-US</dc:language>
  <cp:lastModifiedBy>Teacher</cp:lastModifiedBy>
  <dcterms:modified xsi:type="dcterms:W3CDTF">2010-03-21T22:37:11Z</dcterms:modified>
  <cp:revision>6</cp:revision>
  <dc:subject/>
  <dc:title>PowerPoint Presentation</dc:title>
</cp:coreProperties>
</file>